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3CF6-8121-4342-A8C3-0599143CDF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E8CF-D740-4CFE-AFAF-8927C88F10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F59C-1273-48E6-ADAD-0B66AABE11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BD81-03F6-41B9-BAAF-74B8A98D89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F7D2-0424-495D-869C-CDB2B527B8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1273-2673-406B-BACD-4130726291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6E9-A68B-4A9B-A784-C405852A83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265B-211A-41AE-8010-1ABDCADB2E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DF62-3ADD-453A-9015-54C8FC3279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676-282C-4969-89BF-EAF07C119C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DB86-C803-4202-A819-4BB37C9665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F5B4-FD8B-4A45-8B22-2BE4C8D5E1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9CAC-5E25-4B27-A86A-7D99F4038A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A692-BB57-44E3-9196-23CB7990E1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2A19-993B-4C97-A1A8-9B444C8625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09D4-1C91-4C64-A247-EF06CD787F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BD0-DB35-430D-8580-BFE7B815ED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8997-5A31-4C41-AB3E-03986A8304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89C1-9FF1-4029-B3BA-DBB2A4F42B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398-0CC9-4E48-A532-233A09A2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027-E9BD-4477-AA19-088DEC0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C59-1E86-49EF-AEF9-0C1F3D63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C7D-2535-43FB-84CE-2B461BDE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E7B-DFF8-4096-888F-CF572AA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AE1-87F3-4292-B3EF-7C84CC7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638-A6F2-4434-AF1A-00EE0EF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548-DE6E-47A5-A6FE-33A27F3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C75-7DF4-4269-B477-75186660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CC3-19BA-4037-B99E-BB9A26A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E65-B0AF-4060-9422-9644965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D92-2C20-4B68-A5B0-37EE74B0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C110-072C-4750-9951-C03E52CD0D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76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76 by mělo být zlepšení situace v definovaných oblastech trhu 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rizontální a vertikální rozdělení trh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íra platové nerovnosti žen a mu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stup zaměstnavatelů ke slaďování prac. a rodin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urávání genderových stereoty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90" name="Šipka doprava 5"/>
          <p:cNvSpPr/>
          <p:nvPr/>
        </p:nvSpPr>
        <p:spPr>
          <a:xfrm>
            <a:off x="466560" y="5427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102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3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12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hody, klady, příležitosti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chopnost identifikovat problémy a potřeby a vyvinou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inné způsoby jejich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šíření projektových zdroj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ovedností, znalostí, organizační kapacit, finanč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řet rozmanitých zkušeností a myšlenek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vůrčí řešení a ino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Mnohostranné řešení mnohostranných (komplexních) problém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každý přispívá něčím, co ti druzí nemají, neznají nebo neu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a veřejn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ení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a neziskov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ájmy a potřeb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a podnikatelský sektor –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ružnost, iniciativa, 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sektor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rádá často finanční zdroje (materiál i li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– postrádá veřejný 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– postrádá podnikavost, odvahu začít, pruž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ynergie – partneři toho spolu dokáží víc, než každý sám (1+1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5"/>
          <p:cNvSpPr/>
          <p:nvPr/>
        </p:nvSpPr>
        <p:spPr>
          <a:xfrm>
            <a:off x="539640" y="350028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4"/>
          <p:cNvSpPr/>
          <p:nvPr/>
        </p:nvSpPr>
        <p:spPr>
          <a:xfrm>
            <a:off x="539640" y="444672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výhody, zápory, rizika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íc partnerů = víc lidí = více pohledů na věc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→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íce času a úsil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třebného k přesvědčení ostatních, k dosažení konsensu a k přijetí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 si nemůže dělat vše jen dle svého – musí brá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hledy na part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upráce postavena na jasném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uvním a právním základě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jeden z partnerů má konečnou zodpovědnost za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vyžaduje řízení a s tím i dobré komunikač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nvalidní partnerství – partnerství bez reálné rovnoprávnosti, bez podílu na rozhodování či bez dostatečné informovanosti někter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zor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!!!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na partnery, kteří jsou neužiteční, mají nevhodné cíle, nebo chtějí ostatní jen využít. Do projektu nic nepřináší – peníze, know how či lidské zdroje, ale chtějí pouze „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moci s real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“ jakožto dodavate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9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1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2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1-06-17T12:58:40Z</dcterms:modified>
  <cp:revision>1010</cp:revision>
  <dc:subject/>
  <dc:title>Snímek 1</dc:title>
</cp:coreProperties>
</file>